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64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64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96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64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96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64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6489720"/>
            <a:ext cx="9360000" cy="558720"/>
          </a:xfrm>
          <a:prstGeom prst="roundRect">
            <a:avLst>
              <a:gd name="adj" fmla="val 28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250920" y="649764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592360" y="6497640"/>
            <a:ext cx="54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-37548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33768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95600" indent="-33768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10320" indent="-29988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0" y="5589720"/>
            <a:ext cx="9325080" cy="136836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9239400" cy="1989000"/>
          </a:xfrm>
          <a:prstGeom prst="roundRect">
            <a:avLst>
              <a:gd name="adj" fmla="val 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3754440" y="5800680"/>
            <a:ext cx="16336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4"/>
          <p:cNvGrpSpPr/>
          <p:nvPr/>
        </p:nvGrpSpPr>
        <p:grpSpPr>
          <a:xfrm>
            <a:off x="2948040" y="333360"/>
            <a:ext cx="3278160" cy="1336680"/>
            <a:chOff x="2948040" y="333360"/>
            <a:chExt cx="3278160" cy="1336680"/>
          </a:xfrm>
        </p:grpSpPr>
        <p:sp>
          <p:nvSpPr>
            <p:cNvPr id="45" name="AutoShape 5"/>
            <p:cNvSpPr/>
            <p:nvPr/>
          </p:nvSpPr>
          <p:spPr>
            <a:xfrm>
              <a:off x="2948040" y="333360"/>
              <a:ext cx="3278160" cy="1336680"/>
            </a:xfrm>
            <a:prstGeom prst="roundRect">
              <a:avLst>
                <a:gd name="adj" fmla="val 116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3"/>
            <a:stretch/>
          </p:blipFill>
          <p:spPr>
            <a:xfrm>
              <a:off x="2948040" y="333360"/>
              <a:ext cx="327816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199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5000" indent="-4050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1440" indent="-36792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17880" indent="-33084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61400" indent="-33084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67840" indent="-29376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67840" indent="-29376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67840" indent="-29376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200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Mantenimento dello stato</a:t>
            </a:r>
            <a:endParaRPr b="1" lang="en-US" sz="36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265560"/>
            <a:ext cx="78487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7000"/>
              </a:lnSpc>
              <a:spcBef>
                <a:spcPts val="29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aboratorio Progettazione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7000"/>
              </a:lnSpc>
              <a:spcBef>
                <a:spcPts val="29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AA 2009/20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7000"/>
              </a:lnSpc>
              <a:spcBef>
                <a:spcPts val="29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hiara Rens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ISTI- CNR - c.renso@isti.cnr.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2880" y="174600"/>
            <a:ext cx="79203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okies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241280"/>
            <a:ext cx="79200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 PHP i cookies si possono settare, modificare e cancellare con l’istruzione 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setcookie(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mportante: questa istruzione deve apparire nella pagina php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prima di qualsiasi istruzione di stampa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– quindi anche tag anche HTML. Un cookies settato in una pagina sarà visibile solo al caricamento successivo (i cookie vengono inviati nello header secondo il protocollo HTTP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Esempio: </a:t>
            </a:r>
            <a:br>
              <a:rPr sz="2200"/>
            </a:b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etcookie(“utente”,”miosito”);</a:t>
            </a:r>
            <a:br>
              <a:rPr sz="2200"/>
            </a:b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definisce un cookie di nome “utente” a cui assegna il valore “miosito”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mpio: pagina primocookie.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342800"/>
            <a:ext cx="792000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&lt;? setcookie(‘userid’,’pippo’); 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&lt;HTML&gt; &lt;HEAD&gt;....... Questa è la pagina che setta il cookie .....  &lt;/HTML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88800" y="3395520"/>
            <a:ext cx="1063800" cy="12002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075280" y="3259080"/>
            <a:ext cx="2195640" cy="12906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1474920" y="3567240"/>
            <a:ext cx="3566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035080" y="3259080"/>
            <a:ext cx="17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imocookie.ph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1501920" y="4290840"/>
            <a:ext cx="356688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490760" y="3973680"/>
            <a:ext cx="35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etta il cookie  userid=pip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260440" y="4295880"/>
            <a:ext cx="13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agina 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12920" y="343044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5183280" y="33195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449280" y="5043600"/>
            <a:ext cx="1063440" cy="1199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5135400" y="4906800"/>
            <a:ext cx="2195640" cy="12909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1535040" y="5214960"/>
            <a:ext cx="3567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787400" y="4883040"/>
            <a:ext cx="323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econdapagina.php, userid=pip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1562040" y="5938920"/>
            <a:ext cx="356724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155680" y="559584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econdapagi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473040" y="50785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5243400" y="496728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476280" y="1255680"/>
            <a:ext cx="7886520" cy="16588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7800" y="-360"/>
            <a:ext cx="79200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okies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206000"/>
            <a:ext cx="79200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l valore di un cookie si può ottenere dall’array $_COOKIE[“nomecookie”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&lt;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setcookie("utente","pippo"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echo $_COOKIE[‘utente’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?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ttenzione, notare che il valore del cookie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sarà visibile solo al successivo caricamento della pagina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l valore dei cookies è sempre visibile tramite la funzione phpinfo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7960" y="-360"/>
            <a:ext cx="79203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liminazione di un cooki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Un cookie può essere eliminato dandogli una precisa scadenza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etcookie(“user”,”pippo”,time()+3600)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Quindi non esisterà più dopo un’ora. Si può eliminare dando una scadenza anteriore oppure semplicemente con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etcookie(“user”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39320"/>
            <a:ext cx="7920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ession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11368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a sessione è un concetto astratto che in HTTP non esiste. Si definisce </a:t>
            </a:r>
            <a:r>
              <a:rPr b="1" lang="it-IT" sz="2200" spc="-1" strike="noStrike">
                <a:solidFill>
                  <a:srgbClr val="3399ff"/>
                </a:solidFill>
                <a:latin typeface="Arial"/>
              </a:rPr>
              <a:t>sessione una visita di un utente ad un sito web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e sessioni vengono quindi simulate a programma e funzionano assegnando ad un utente un ID univoco ogni volta che accede al sito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e sessioni vengono tipicamente realizzate con un cookie (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HPSESSID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) e permettono di mantenere valori assegnati ad una sessione utente. Spariscono al terminare della session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Esempi: carrello della spesa nei siti di commercio elettronico, login e  password dopo l’autenticazione, preferenze dell’utente..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-79560"/>
            <a:ext cx="79200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ession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9040" y="806040"/>
            <a:ext cx="8994600" cy="55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8960" indent="-40896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a sessione si attiva con l’istruzione 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session_start(),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he deve essere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sempre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presente nella pagina PHP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quando si usano le sessioni, quindi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ia per definire una variabile che per accederne al valor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ession_start()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deve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essere nella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parte iniziale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della pagina php (prima della prima istruzione di stampa, come per i cookie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e variabili di sessioni si memorizzano del global array $_SESSION[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Una variabile di sessione si cancella con l’istruzione 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unset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(ad. es. unset($miavar);)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Tutte le variabili di sessione posso essere cancellate contemporaneamente (logout) con la funzione </a:t>
            </a:r>
            <a:r>
              <a:rPr b="1" lang="en-US" sz="2200" spc="-1" strike="noStrike">
                <a:solidFill>
                  <a:srgbClr val="00cc99"/>
                </a:solidFill>
                <a:latin typeface="Arial"/>
              </a:rPr>
              <a:t>session_destroy();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essioni: esempi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&lt;?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 // definizione di una variabile di sessione e stampa del valo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session_start(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$_SESSION['login']="pluto"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echo $_SESSION[‘login’]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9200" y="248760"/>
            <a:ext cx="79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essioni: Esempi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1261800"/>
            <a:ext cx="7920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&lt;?php  //conteggio degli accessi ad una pagi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session_start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if (!isset($_SESSION[“count”])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$_SESSION[“count”]=0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el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$_SESSION[“count”]++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echo “hai visitato questa pagina $_SESSION[count] volte”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?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6697800" y="1474920"/>
            <a:ext cx="1474560" cy="3004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0" y="222120"/>
            <a:ext cx="6219720" cy="5972400"/>
          </a:xfrm>
          <a:prstGeom prst="rect">
            <a:avLst/>
          </a:prstGeom>
          <a:ln w="0">
            <a:noFill/>
          </a:ln>
        </p:spPr>
      </p:pic>
      <p:sp>
        <p:nvSpPr>
          <p:cNvPr id="156" name="Line 4"/>
          <p:cNvSpPr/>
          <p:nvPr/>
        </p:nvSpPr>
        <p:spPr>
          <a:xfrm>
            <a:off x="6310440" y="3052800"/>
            <a:ext cx="501480" cy="1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6343560" y="3236760"/>
            <a:ext cx="473040" cy="18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780080" y="220680"/>
            <a:ext cx="3890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vantgarde"/>
              </a:rPr>
              <a:t>Architettura Server-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4325760" y="736560"/>
            <a:ext cx="1363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Eventuali p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aramet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6770520" y="2227320"/>
            <a:ext cx="2167200" cy="1652400"/>
            <a:chOff x="6770520" y="2227320"/>
            <a:chExt cx="2167200" cy="1652400"/>
          </a:xfrm>
        </p:grpSpPr>
        <p:sp>
          <p:nvSpPr>
            <p:cNvPr id="161" name="AutoShape 9"/>
            <p:cNvSpPr/>
            <p:nvPr/>
          </p:nvSpPr>
          <p:spPr>
            <a:xfrm>
              <a:off x="6770520" y="2227320"/>
              <a:ext cx="1306800" cy="1652400"/>
            </a:xfrm>
            <a:custGeom>
              <a:avLst/>
              <a:gdLst>
                <a:gd name="textAreaLeft" fmla="*/ 720 w 1306800"/>
                <a:gd name="textAreaRight" fmla="*/ 1306080 w 1306800"/>
                <a:gd name="textAreaTop" fmla="*/ 720 h 1652400"/>
                <a:gd name="textAreaBottom" fmla="*/ 1651680 h 1652400"/>
              </a:gdLst>
              <a:ahLst/>
              <a:rect l="textAreaLeft" t="textAreaTop" r="textAreaRight" b="textAreaBottom"/>
              <a:pathLst>
                <a:path w="21600" h="27311">
                  <a:moveTo>
                    <a:pt x="41" y="0"/>
                  </a:moveTo>
                  <a:arcTo wR="41" hR="41" stAng="16200000" swAng="-5400000"/>
                  <a:lnTo>
                    <a:pt x="0" y="27270"/>
                  </a:lnTo>
                  <a:arcTo wR="41" hR="41" stAng="10800000" swAng="-5400000"/>
                  <a:lnTo>
                    <a:pt x="21559" y="27311"/>
                  </a:lnTo>
                  <a:arcTo wR="41" hR="41" stAng="5400000" swAng="-5400000"/>
                  <a:lnTo>
                    <a:pt x="21600" y="41"/>
                  </a:lnTo>
                  <a:arcTo wR="41" hR="41" stAng="0" swAng="-5400000"/>
                  <a:close/>
                </a:path>
              </a:pathLst>
            </a:cu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6778800" y="2244600"/>
              <a:ext cx="11840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vantgarde"/>
                </a:rPr>
                <a:t>Elaboraz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Group 11"/>
            <p:cNvGrpSpPr/>
            <p:nvPr/>
          </p:nvGrpSpPr>
          <p:grpSpPr>
            <a:xfrm>
              <a:off x="6997680" y="2681280"/>
              <a:ext cx="531720" cy="703440"/>
              <a:chOff x="6997680" y="2681280"/>
              <a:chExt cx="531720" cy="703440"/>
            </a:xfrm>
          </p:grpSpPr>
          <p:sp>
            <p:nvSpPr>
              <p:cNvPr id="164" name="AutoShape 12"/>
              <p:cNvSpPr/>
              <p:nvPr/>
            </p:nvSpPr>
            <p:spPr>
              <a:xfrm>
                <a:off x="6997680" y="2681280"/>
                <a:ext cx="531720" cy="703440"/>
              </a:xfrm>
              <a:custGeom>
                <a:avLst/>
                <a:gdLst>
                  <a:gd name="textAreaLeft" fmla="*/ 360 w 531720"/>
                  <a:gd name="textAreaRight" fmla="*/ 531360 w 531720"/>
                  <a:gd name="textAreaTop" fmla="*/ 360 h 703440"/>
                  <a:gd name="textAreaBottom" fmla="*/ 703080 h 703440"/>
                </a:gdLst>
                <a:ahLst/>
                <a:rect l="textAreaLeft" t="textAreaTop" r="textAreaRight" b="textAreaBottom"/>
                <a:pathLst>
                  <a:path w="21600" h="28571">
                    <a:moveTo>
                      <a:pt x="64" y="0"/>
                    </a:moveTo>
                    <a:arcTo wR="64" hR="64" stAng="16200000" swAng="-5400000"/>
                    <a:lnTo>
                      <a:pt x="0" y="28507"/>
                    </a:lnTo>
                    <a:arcTo wR="64" hR="64" stAng="10800000" swAng="-5400000"/>
                    <a:lnTo>
                      <a:pt x="21536" y="28571"/>
                    </a:lnTo>
                    <a:arcTo wR="64" hR="64" stAng="5400000" swAng="-5400000"/>
                    <a:lnTo>
                      <a:pt x="21600" y="64"/>
                    </a:lnTo>
                    <a:arcTo wR="64" hR="64" stAng="0" swAng="-5400000"/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7066080" y="2938680"/>
                <a:ext cx="415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7058160" y="2822760"/>
                <a:ext cx="430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AutoShape 15"/>
            <p:cNvSpPr/>
            <p:nvPr/>
          </p:nvSpPr>
          <p:spPr>
            <a:xfrm>
              <a:off x="8402760" y="2752560"/>
              <a:ext cx="534960" cy="5972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7869240" y="2774880"/>
              <a:ext cx="501480" cy="174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 flipV="1">
              <a:off x="7970760" y="3266640"/>
              <a:ext cx="419040" cy="174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Text Box 18"/>
            <p:cNvSpPr/>
            <p:nvPr/>
          </p:nvSpPr>
          <p:spPr>
            <a:xfrm>
              <a:off x="7878600" y="2373480"/>
              <a:ext cx="105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SELECT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7674120" y="3338640"/>
              <a:ext cx="307800" cy="33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7777080" y="334980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>
              <a:off x="7878600" y="333684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>
              <a:off x="7683480" y="3411360"/>
              <a:ext cx="29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23"/>
            <p:cNvSpPr/>
            <p:nvPr/>
          </p:nvSpPr>
          <p:spPr>
            <a:xfrm>
              <a:off x="7088040" y="3030480"/>
              <a:ext cx="88920" cy="17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H="1" flipV="1">
              <a:off x="7386480" y="3216240"/>
              <a:ext cx="2476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25"/>
          <p:cNvSpPr/>
          <p:nvPr/>
        </p:nvSpPr>
        <p:spPr>
          <a:xfrm>
            <a:off x="6696000" y="149688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essi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333360" y="1968480"/>
            <a:ext cx="152100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o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4400" y="174600"/>
            <a:ext cx="79200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antenere le informazioni 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331640"/>
            <a:ext cx="79200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bbiamo visto come il passaggio di informazioni (parametri) tra le pagine possa avvenire tramite le FORM e quindi con  la opportune variabili predefini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ramite l’uso della form passiamo i parametri da una pagina HTML alla pagine di gestione delle form, ma poi? Cosa succede per il resto della navigazione uten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 Web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n il protocollo HTT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è </a:t>
            </a: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stateles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ntre le applicazioni necessitano di mantener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ati inseriti per tutta la navigazione dell’utente (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sessio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 alcuni casi è sufficiente il passaggio di pochi parametri tra due pagine, in altri casi il valore di alcune variabili deve essere accessibile da 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tutt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le pagine che compongono l’applicazione (ad es. carrello della spesa). 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Ricordiamo che l’ambito delle variabili in PHP è locale allo script.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5280" y="201600"/>
            <a:ext cx="79200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antenere lo stat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382400"/>
            <a:ext cx="7920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tendiamo con “stato” l’insieme dei valori risultanti dall’interazione  dell’utente con l’applicazion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Abbiamo quattro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possibilità 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mpi Hidden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delle form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assati da pagina a pagin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Tramite querystring nella UR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assati da pagina a pagin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okies – file di testo sul PC dell’utente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globale all’applicazio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ariabili di Sessione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– memorizzate sul server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realizzate come cookies, </a:t>
            </a: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globali dalla sessione uten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99520"/>
            <a:ext cx="79200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ampi Hidden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282320"/>
            <a:ext cx="79200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 form prevedono dei campi speciali invisibili all’utente ma che vengono trattati a tutti gli effetti come campi di una form e quindi sono in grado di passare come parametro il loro val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&lt;INPUT type=HIDDEN name=“nascosto” value=“miapass”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 PHP verrà trattato come un qualsiasi altro parametro e il valore passato in questo caso sarà “miapass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n questo metodo si riescono a passare in genere pochi parametri e per poche pagi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ccorre creare una campo hidden (quindi una form) in ogni pagina in cui il parametro deve essere passa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ampi Hidden : Esempi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2120" y="2465280"/>
            <a:ext cx="4338720" cy="38642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646600" y="2592360"/>
            <a:ext cx="3497400" cy="36957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0680" y="2506680"/>
            <a:ext cx="4325760" cy="37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4d"/>
                </a:solidFill>
                <a:latin typeface="Arial"/>
                <a:ea typeface="Arial"/>
              </a:rPr>
              <a:t>&lt;?php  //questa pagina riceve un valore di login da una form</a:t>
            </a:r>
            <a:r>
              <a:rPr b="0" lang="it-IT" sz="2400" spc="-1" strike="noStrike">
                <a:solidFill>
                  <a:srgbClr val="0066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4d"/>
                </a:solidFill>
                <a:latin typeface="Arial"/>
                <a:ea typeface="Arial"/>
              </a:rPr>
              <a:t>$login = $_REQUEST[“login”];  ?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&lt;FORM name=“…”, action=“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ricevilogin.php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”, method=GE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&lt;INPUT type=</a:t>
            </a:r>
            <a:r>
              <a:rPr b="1" lang="it-IT" sz="1600" spc="-1" strike="noStrike">
                <a:solidFill>
                  <a:srgbClr val="cc0000"/>
                </a:solidFill>
                <a:latin typeface="Arial"/>
                <a:ea typeface="Arial"/>
              </a:rPr>
              <a:t>hidde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value=“&lt;? </a:t>
            </a:r>
            <a:r>
              <a:rPr b="1" lang="it-IT" sz="1600" spc="-1" strike="noStrike">
                <a:solidFill>
                  <a:srgbClr val="cc0000"/>
                </a:solidFill>
                <a:latin typeface="Arial"/>
                <a:ea typeface="Arial"/>
              </a:rPr>
              <a:t>echo $logi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?&gt;” name=“</a:t>
            </a:r>
            <a:r>
              <a:rPr b="1" lang="it-IT" sz="1600" spc="-1" strike="noStrike">
                <a:solidFill>
                  <a:srgbClr val="ffffcc"/>
                </a:solidFill>
                <a:latin typeface="Arial"/>
                <a:ea typeface="Arial"/>
              </a:rPr>
              <a:t>log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&lt;INPUT type=submi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675400" y="2900520"/>
            <a:ext cx="3468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&lt;?ph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$loginricevuto = $_GET[“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log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”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echo $loginricevut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?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8"/>
          <p:cNvSpPr/>
          <p:nvPr/>
        </p:nvSpPr>
        <p:spPr>
          <a:xfrm>
            <a:off x="4589640" y="3722760"/>
            <a:ext cx="1022040" cy="190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054080" y="1273320"/>
            <a:ext cx="694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Una pagina php riceve da una form il valore del login e vuole passarlo ad una terza pag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526080" y="224460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ricevilogin.ph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QueryString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3141720"/>
            <a:ext cx="8713800" cy="2735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&lt;?php // passaggio del valore della variabile $my_id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//  tra le pagine current.php e next.php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$my_id=“ciao”; 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&lt;A HREF=”next.php?my_id=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&lt;? echo $my_id; ?&gt;”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&gt;Next&lt;/A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30200" y="1268280"/>
            <a:ext cx="8713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l passaggio avviene tra due pagine, usando la tecnica della querystring e quindi il metodo GET, qui usato senza la FORM, in modo esplici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QueryString: esempio next.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229600" cy="23763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&lt;?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$my_id=$_GET[‘my_id’]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$my_id;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30200" y="1322280"/>
            <a:ext cx="8713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l passaggio avviene tra due pagine, usando la tecnica della querystring e quindi il metodo GET, qui usato senza la FORM, in modo esplici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QueryString: Esempi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22120" y="2811600"/>
            <a:ext cx="3746520" cy="2224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873760" y="2814480"/>
            <a:ext cx="3270240" cy="229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63440" y="2824200"/>
            <a:ext cx="3791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  <a:ea typeface="Arial"/>
              </a:rPr>
              <a:t>&lt;?ph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  <a:ea typeface="Arial"/>
              </a:rPr>
              <a:t>$my_id=“ciao”; ?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&lt;A HREF=”next.php?id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ffff99"/>
                </a:solidFill>
                <a:latin typeface="Arial"/>
                <a:ea typeface="Arial"/>
              </a:rPr>
              <a:t>&lt;?php echo $my_id; ?&gt;”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&lt;/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989680" y="2900520"/>
            <a:ext cx="315432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&lt;?ph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$identifier=$_GET[‘id’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echo $identifier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?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8"/>
          <p:cNvSpPr/>
          <p:nvPr/>
        </p:nvSpPr>
        <p:spPr>
          <a:xfrm flipV="1">
            <a:off x="3954600" y="3679560"/>
            <a:ext cx="1890720" cy="428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054080" y="1273320"/>
            <a:ext cx="694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Una pagina php riceve dalla queryString il valore di uno o piu’ variabili, si usa il metodo 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862600" y="230184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next.ph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14280" y="232560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current.ph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719520" y="324792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next.php?id=“ciao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58880" y="5335560"/>
            <a:ext cx="69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La funzione </a:t>
            </a:r>
            <a:r>
              <a:rPr b="0" lang="it-IT" sz="2400" spc="-1" strike="noStrike">
                <a:solidFill>
                  <a:srgbClr val="00cc99"/>
                </a:solidFill>
                <a:latin typeface="Arial"/>
                <a:ea typeface="Arial"/>
              </a:rPr>
              <a:t>urlencode(URL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permette il passaggio di caratteri speciali  nella url come spazi o acc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okies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41080"/>
            <a:ext cx="7920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Meccanismo che permette al server di memorizzare e poi reperire informazioni dal client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E’ tipico della applicazioni web – ad esempio i siti che si “ricordano di noi” quando torniamo, hanno memorizzato un cookies sul nostro browser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a durata di un cookie può essere variabile e può durare anche per molte sessioni (molte visite al sito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 pratica l’applicazione web scrive un file nel file system del client che contiene le informazioni sulla visita dell’uten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5:40:04Z</dcterms:created>
  <dc:creator/>
  <dc:description/>
  <dc:language>en-US</dc:language>
  <cp:lastModifiedBy>Chiara Renso</cp:lastModifiedBy>
  <dcterms:modified xsi:type="dcterms:W3CDTF">2010-05-02T17:15:51Z</dcterms:modified>
  <cp:revision>193</cp:revision>
  <dc:subject/>
  <dc:title>Laboratorio di Progettazione Web</dc:title>
</cp:coreProperties>
</file>